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AAD-B62C-40C0-9F43-32D6CF5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212-32FD-46AA-A843-B0F04BF2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447-6836-4732-B1EF-9B873A5B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846-206B-48EC-A809-0A6944F3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3AD-EF8D-49FA-934E-A4A4C004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E4E-F69B-42B1-BD8D-9472280A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C6D-4BE8-4370-B21E-88CD910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4ED-04CB-4FF0-858D-C1176BC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519-CBAA-44C1-8B73-01B15F52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F69-E8FE-4476-AA8C-F5CD114D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8F1-3693-493F-B851-7E9289B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21C-F4F4-4A1A-8716-C92DB79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19520" y="6244920"/>
            <a:ext cx="3504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ente &amp; A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S223b Computer 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9C5-5829-4EEF-92A5-B7756FD1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Mineral identification on MER PANCAM data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S223b 2005 Pro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rnando A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io Par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Verdana"/>
              </a:rPr>
              <a:t>Background: PANCAM Multispectral images</a:t>
            </a:r>
            <a:endParaRPr b="0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00600" cy="359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81600" y="14079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ER PAN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Verdana"/>
              </a:rPr>
              <a:t>Preprocessing </a:t>
            </a:r>
            <a:endParaRPr b="0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876920"/>
            <a:ext cx="1212840" cy="137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43200" y="4876920"/>
            <a:ext cx="1212840" cy="137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2743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HV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44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>
            <a:lum bright="12000"/>
          </a:blip>
          <a:srcRect l="19565" t="10146" r="19565" b="11595"/>
          <a:stretch/>
        </p:blipFill>
        <p:spPr>
          <a:xfrm>
            <a:off x="2590920" y="304812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19565" t="11595" r="19565" b="10146"/>
          <a:stretch/>
        </p:blipFill>
        <p:spPr>
          <a:xfrm>
            <a:off x="304920" y="1295280"/>
            <a:ext cx="1600200" cy="1543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19565" t="10146" r="19565" b="11595"/>
          <a:stretch/>
        </p:blipFill>
        <p:spPr>
          <a:xfrm>
            <a:off x="304920" y="3048120"/>
            <a:ext cx="160020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>
            <a:lum bright="12000"/>
          </a:blip>
          <a:srcRect l="19565" t="11595" r="19565" b="10146"/>
          <a:stretch/>
        </p:blipFill>
        <p:spPr>
          <a:xfrm>
            <a:off x="2590920" y="1295280"/>
            <a:ext cx="1600200" cy="154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6400" y="990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51160" y="2743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fie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51880" y="4572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638680" y="3276720"/>
                <a:ext cx="27432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Verdana"/>
              </a:rPr>
              <a:t>Problem: Mineral Mapping &amp; Visual Classification</a:t>
            </a:r>
            <a:endParaRPr b="0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1919520" cy="218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919160" cy="218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657600"/>
            <a:ext cx="1919160" cy="218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124080"/>
            <a:ext cx="2743200" cy="914400"/>
          </a:xfrm>
          <a:prstGeom prst="line">
            <a:avLst/>
          </a:prstGeom>
          <a:ln w="4140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996840" y="1901880"/>
            <a:ext cx="2836800" cy="1001880"/>
          </a:xfrm>
          <a:prstGeom prst="line">
            <a:avLst/>
          </a:prstGeom>
          <a:ln w="4140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286400">
            <a:off x="1218600" y="37335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lock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769400">
            <a:off x="991080" y="1980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ixel lab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867280" y="2286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62520" y="1905120"/>
            <a:ext cx="3657600" cy="114300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62520" y="3504960"/>
            <a:ext cx="2361960" cy="609480"/>
          </a:xfrm>
          <a:prstGeom prst="line">
            <a:avLst/>
          </a:prstGeom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24480" y="3276360"/>
            <a:ext cx="457200" cy="22860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324480" y="3352680"/>
            <a:ext cx="533520" cy="152640"/>
          </a:xfrm>
          <a:prstGeom prst="line">
            <a:avLst/>
          </a:prstGeom>
          <a:ln w="4140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3505320"/>
            <a:ext cx="609840" cy="0"/>
          </a:xfrm>
          <a:prstGeom prst="line">
            <a:avLst/>
          </a:prstGeom>
          <a:ln w="41400">
            <a:solidFill>
              <a:srgbClr val="bbe0e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236600">
            <a:off x="4651200" y="20574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M pixe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468400">
            <a:off x="3737520" y="388584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VGEM block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Problem: Need  for Texture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3505320"/>
            <a:ext cx="221004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24080" y="1833480"/>
            <a:ext cx="2210040" cy="1519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168640" cy="283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2819520"/>
            <a:ext cx="190476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2895120"/>
            <a:ext cx="2057400" cy="38124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038480"/>
            <a:ext cx="2133720" cy="228600"/>
          </a:xfrm>
          <a:prstGeom prst="line">
            <a:avLst/>
          </a:prstGeom>
          <a:ln w="414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200400"/>
            <a:ext cx="3200400" cy="9144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29400" y="259092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7391520" y="2819520"/>
            <a:ext cx="0" cy="457200"/>
          </a:xfrm>
          <a:prstGeom prst="line">
            <a:avLst/>
          </a:prstGeom>
          <a:ln w="41400">
            <a:solidFill>
              <a:srgbClr val="99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51040" y="308448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77920" y="26668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467480" y="3352680"/>
            <a:ext cx="0" cy="457200"/>
          </a:xfrm>
          <a:prstGeom prst="line">
            <a:avLst/>
          </a:prstGeom>
          <a:ln w="41400">
            <a:solidFill>
              <a:srgbClr val="99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276720"/>
            <a:ext cx="381240" cy="0"/>
          </a:xfrm>
          <a:prstGeom prst="line">
            <a:avLst/>
          </a:prstGeom>
          <a:ln w="41400">
            <a:solidFill>
              <a:srgbClr val="99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352680"/>
            <a:ext cx="380880" cy="0"/>
          </a:xfrm>
          <a:prstGeom prst="line">
            <a:avLst/>
          </a:prstGeom>
          <a:ln w="41400">
            <a:solidFill>
              <a:srgbClr val="99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6520" y="22096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Results: Mineral Mapping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21000" y="213372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EM (8x8 bl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6560" y="213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14240" y="1981080"/>
            <a:ext cx="685800" cy="175284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1676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isclas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581280" y="2286000"/>
            <a:ext cx="1447920" cy="1523880"/>
          </a:xfrm>
          <a:prstGeom prst="line">
            <a:avLst/>
          </a:prstGeom>
          <a:ln w="4140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15880" y="1941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f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Results: Classification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212920" cy="2514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92400" y="1600200"/>
            <a:ext cx="31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GEM (8x8 bl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50840" y="51418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classification error 2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stly so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905120"/>
          <a:ext cx="3810240" cy="3684600"/>
        </p:xfrm>
        <a:graphic>
          <a:graphicData uri="http://schemas.openxmlformats.org/drawingml/2006/table">
            <a:tbl>
              <a:tblPr/>
              <a:tblGrid>
                <a:gridCol w="1270080"/>
                <a:gridCol w="1320840"/>
                <a:gridCol w="121932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ght r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k r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ght 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rk 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END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Contribution</a:t>
            </a:r>
            <a:endParaRPr b="0" lang="en-US" sz="4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ente : 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mat:5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6:39:06Z</dcterms:created>
  <dc:creator>cyberey</dc:creator>
  <dc:description/>
  <dc:language>en-US</dc:language>
  <cp:lastModifiedBy>user</cp:lastModifiedBy>
  <dcterms:modified xsi:type="dcterms:W3CDTF">2005-03-10T19:46:30Z</dcterms:modified>
  <cp:revision>10</cp:revision>
  <dc:subject/>
  <dc:title>Mineral identification and surface classification</dc:title>
</cp:coreProperties>
</file>